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jpeg" ContentType="image/jpeg"/>
  <Override PartName="/ppt/media/image3.jpeg" ContentType="image/jpeg"/>
  <Override PartName="/ppt/media/image4.pct" ContentType="image/x-pict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D79-C005-4F29-BBF6-F0859325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211-205C-4431-9DFC-EC606F9E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B9F-2314-48A2-8579-C5A0756F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34F-6346-482E-A8C4-8FA691EC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34D-D5D9-4F0F-9F80-CE9E2F86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6D5-6CF9-441D-A5F4-732D0AE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2C6-ECAE-457E-A86C-3227C47A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85A-8E5A-47E1-B964-A113325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A29-ACCE-4E8A-89EF-E3679296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5F65-42EB-4A93-8DE8-FDB99648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BD3-A947-4767-AC6E-24FAF8D7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090-98CC-4E29-AC48-23DFC6F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5A3-2C53-4657-A58E-7A85E5E86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ff0000"/>
                </a:solidFill>
                <a:uFillTx/>
                <a:latin typeface="Bertram LET"/>
              </a:rPr>
              <a:t>Chapter 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halkboard Bold"/>
              </a:rPr>
              <a:t>Food</a:t>
            </a:r>
            <a:r>
              <a:rPr b="0" lang="en-US" sz="7200" spc="-1" strike="noStrike">
                <a:solidFill>
                  <a:srgbClr val="ccccff"/>
                </a:solidFill>
                <a:latin typeface="Chalkboard Bold"/>
              </a:rPr>
              <a:t> </a:t>
            </a:r>
            <a:r>
              <a:rPr b="0" lang="en-US" sz="7200" spc="-1" strike="noStrike">
                <a:solidFill>
                  <a:srgbClr val="ff8000"/>
                </a:solidFill>
                <a:latin typeface="Chalkboard Bold"/>
              </a:rPr>
              <a:t>and</a:t>
            </a:r>
            <a:r>
              <a:rPr b="0" lang="en-US" sz="7200" spc="-1" strike="noStrike">
                <a:solidFill>
                  <a:srgbClr val="ccccff"/>
                </a:solidFill>
                <a:latin typeface="Chalkboard Bold"/>
              </a:rPr>
              <a:t> </a:t>
            </a:r>
            <a:r>
              <a:rPr b="1" lang="en-US" sz="7200" spc="-1" strike="noStrike" u="sng">
                <a:solidFill>
                  <a:srgbClr val="00ff00"/>
                </a:solidFill>
                <a:uFillTx/>
                <a:latin typeface="Chalkboard Bold"/>
              </a:rPr>
              <a:t>Your</a:t>
            </a:r>
            <a:r>
              <a:rPr b="0" lang="en-US" sz="7200" spc="-1" strike="noStrike">
                <a:solidFill>
                  <a:srgbClr val="00ff00"/>
                </a:solidFill>
                <a:latin typeface="Chalkboard Bold"/>
              </a:rPr>
              <a:t> Heal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442800"/>
            <a:ext cx="880596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rexia Nervo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A disorder in which the irrational fear of becoming ob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 Bold"/>
              </a:rPr>
              <a:t>Results in severe weight loss from self-induced sta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8000"/>
                </a:solidFill>
                <a:uFillTx/>
                <a:latin typeface="Arial"/>
              </a:rPr>
              <a:t>Typical Behaviors of persons with Anorex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Extreme low caloric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bsession with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Emotional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istorted sense of body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Denial of an ea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431640"/>
            <a:ext cx="5985000" cy="65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000"/>
                </a:solidFill>
                <a:uFillTx/>
                <a:latin typeface="Arial"/>
              </a:rPr>
              <a:t>Anorexia Nervosa</a:t>
            </a: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 Co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kely Health Problems of Anorex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ired immun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emales, the menstrual cycle may stop due to low body fat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and"/>
              </a:rPr>
              <a:t>POSSIBLY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12840"/>
            <a:ext cx="777240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nd"/>
              </a:rPr>
              <a:t>BULIMIA NERVOSA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and"/>
              </a:rPr>
              <a:t>A disorder in which cycles of overeating are followed by purging through self-induced vomiting or lax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72880"/>
            <a:ext cx="718632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halkboard Bold"/>
              </a:rPr>
              <a:t>Likely Health Problems of Bulimia Include</a:t>
            </a:r>
            <a:r>
              <a:rPr b="1" i="1" lang="en-US" sz="2400" spc="-1" strike="noStrike">
                <a:solidFill>
                  <a:srgbClr val="000000"/>
                </a:solidFill>
                <a:latin typeface="Chalkboar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ehyd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Kidney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Irregular Heartb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Erosion of tooth enam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Damage to esophagus and sto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Nutrient De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 Bold"/>
              </a:rPr>
              <a:t>Serious damage of blood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halkboard Bold"/>
              </a:rPr>
              <a:t>Because Anorexia and Bulimia are psychological disorders, encourage a person to get help but do not try to counsel them your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33280"/>
            <a:ext cx="8001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Nutriti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For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Individua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Marker Felt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ertram LET"/>
              </a:rPr>
              <a:t>Lesson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4316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380880" y="0"/>
            <a:ext cx="9858240" cy="75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halkboard Bold"/>
              </a:rPr>
              <a:t>Athle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Athletes have a greater need for energy, therefore they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Increase their intake of carbohydrates and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hydr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Pasta,rice, bread, vegetables and fr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3504960" cy="2667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05520" y="838080"/>
            <a:ext cx="3124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233280"/>
            <a:ext cx="84294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lectroly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inerals that become electrically charged when in solution (3 main electrolytes are </a:t>
            </a:r>
            <a:r>
              <a:rPr b="0" lang="en-US" sz="2400" spc="-1" strike="noStrike">
                <a:solidFill>
                  <a:srgbClr val="ff0000"/>
                </a:solidFill>
                <a:latin typeface="Britannic Bold"/>
              </a:rPr>
              <a:t>sodium, potassium, and chlori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hydrated helps prevent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dehyd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8000"/>
                </a:solidFill>
                <a:latin typeface="Arial"/>
              </a:rPr>
              <a:t>heat stro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Fluid intake guideline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 several cups of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hours before and 2 more cups 15 minutes before a heavy wor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HYD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storing lost body fluids) should includ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nk two cups of fluid for every pound of body weight lost through sweat. 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 Gato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we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609480"/>
            <a:ext cx="853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halkboard Bold"/>
              </a:rPr>
              <a:t>Vegetarians 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ff00"/>
              </a:buClr>
              <a:buFont typeface="Tex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extile"/>
              </a:rPr>
              <a:t>Lacto-Ovo Vegetai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eople who avoid eating meat, fish, and poultry but do eat dairy foods and eg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95680" y="4038480"/>
            <a:ext cx="419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333360"/>
            <a:ext cx="8305560" cy="70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getarians co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Benefits of being a vegetarian 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itannic Bold"/>
              </a:rPr>
              <a:t>Reduced levels of saturated fats, reduced cholesterol, lower risk of heart disease, high blood pressure and some forms of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Britannic Bold"/>
              </a:rPr>
              <a:t>Vegetarians must be sure to get enough iron, zinc, and B vita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Britannic Bold"/>
              </a:rPr>
              <a:t>Vegans</a:t>
            </a:r>
            <a:r>
              <a:rPr b="0" lang="en-US" sz="2800" spc="-1" strike="noStrike">
                <a:solidFill>
                  <a:srgbClr val="0000ff"/>
                </a:solidFill>
                <a:latin typeface="Britannic Bold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hose who only eat foods of plant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(must take vitamin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ritannic Bold"/>
              </a:rPr>
              <a:t>12 </a:t>
            </a:r>
            <a:r>
              <a:rPr b="1" lang="en-US" sz="2800" spc="-1" strike="noStrike">
                <a:solidFill>
                  <a:srgbClr val="000000"/>
                </a:solidFill>
                <a:latin typeface="Britannic Bold"/>
              </a:rPr>
              <a:t>suppl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193680"/>
            <a:ext cx="6677280" cy="75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extile"/>
              </a:rPr>
              <a:t>Nutrient Supplements</a:t>
            </a: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:  pills, powders, liquids,and other nonfood forms of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extile"/>
              </a:rPr>
              <a:t>Nutrition and Pregnancy</a:t>
            </a:r>
            <a:r>
              <a:rPr b="0" lang="en-US" sz="3200" spc="-1" strike="noStrike">
                <a:solidFill>
                  <a:srgbClr val="ff0000"/>
                </a:solidFill>
                <a:latin typeface="Textile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extile"/>
              </a:rPr>
              <a:t>  increase intake of calories and may need more iron, calcium, and fo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ff"/>
                </a:solidFill>
                <a:uFillTx/>
                <a:latin typeface="Textile"/>
              </a:rPr>
              <a:t>Nutrition and the Elderly:</a:t>
            </a: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  people over 60 may need more vitamin B</a:t>
            </a:r>
            <a:r>
              <a:rPr b="0" lang="en-US" sz="2800" spc="-1" strike="noStrike" baseline="-25000">
                <a:solidFill>
                  <a:srgbClr val="ff00ff"/>
                </a:solidFill>
                <a:latin typeface="Textile"/>
              </a:rPr>
              <a:t>6</a:t>
            </a: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and vitamin D and may need to take nutrient supp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Chalkboard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Chalkboard Bold"/>
              </a:rPr>
              <a:t>Calories (kilocalories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the amount of energy in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 sources of Cal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arbohydr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f67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Prot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4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9 calories per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ach pound of body fat = abo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50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cal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5317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92040"/>
            <a:ext cx="8229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Protecting yourse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from Foo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Textile"/>
              </a:rPr>
              <a:t>Proble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halkboard Bold"/>
              </a:rPr>
              <a:t>Lesson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4080"/>
            <a:ext cx="8305560" cy="67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oodborne Illn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ame for food poisoning where food that has come in contact with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halkboard Bold"/>
              </a:rPr>
              <a:t> contamin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 substanct that spoils or inf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ver 6 million Americans each year suffer from foodborne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ritannic Bold"/>
              </a:rPr>
              <a:t>2 Main Ways food will become conta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1.  Food that is not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Chalkboard Bold"/>
              </a:rPr>
              <a:t> Pasteurized- </a:t>
            </a: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treating food by heating to destroy or slow the growth of path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54160"/>
            <a:ext cx="792468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halkboard Bol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Food that is contaminated with bacteria spread from an infected person or an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itannic Bold"/>
              </a:rPr>
              <a:t>Some bacteria known to cause foodborne illness are: Salmonella, Staphylococcus aureus, Escherichia coli (E. coli) and Clostridium botulin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ymptom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oodborne Ill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:  nausea, vomiting,diarrhea, fever and body 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4920"/>
            <a:ext cx="8001000" cy="116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Bacteria need three conditions for growth:  nutrients, moisture and warm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Bacteria can double in 30 minutes in temperatures between 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and 1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ritannic Bold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halkboard Bold"/>
              </a:rPr>
              <a:t>USDA STEPS TO PREVENT FOODBORNE ILLNES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halkboard Bol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BUYING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do not buy food with damaged packaging, bulging lids,and popped safety buttons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ritannic Bold"/>
              </a:rPr>
              <a:t>Pay attention to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HOME STORAGE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Refrigerate or freeze meat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Britannic Bold"/>
              </a:rPr>
              <a:t>PRE-PREPARATION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:  Thaw meat in the refrigerator  Avoid </a:t>
            </a:r>
            <a:r>
              <a:rPr b="0" lang="en-US" sz="2800" spc="-1" strike="noStrike">
                <a:solidFill>
                  <a:srgbClr val="3333cc"/>
                </a:solidFill>
                <a:latin typeface="Britannic Bold"/>
              </a:rPr>
              <a:t>Cross-Contamination (the spreading of bacteria from one food to an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Wash hands before and after handling raw meat and clean surfaces that come in contact with raw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95400"/>
            <a:ext cx="7924680" cy="9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COOKING</a:t>
            </a:r>
            <a:r>
              <a:rPr b="0" lang="en-US" sz="3200" spc="-1" strike="noStrike">
                <a:solidFill>
                  <a:srgbClr val="0000ff"/>
                </a:solidFill>
                <a:latin typeface="Britannic Bold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Cook foods thorough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SER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Keep hot foods above 1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itannic Bold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and cold foods below 4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Britannic Bold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ff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Britannic Bold"/>
              </a:rPr>
              <a:t>LEFTOVERS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:  Refrigerate leftovers within two hours.  Reheat thorough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Britannic Bol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Britannic Bold"/>
              </a:rPr>
              <a:t>Food Allergies</a:t>
            </a:r>
            <a:r>
              <a:rPr b="0" lang="en-US" sz="3200" spc="-1" strike="noStrike">
                <a:solidFill>
                  <a:srgbClr val="ff0000"/>
                </a:solidFill>
                <a:latin typeface="Britannic Bold"/>
              </a:rPr>
              <a:t>:  the body’s immune system overreacts to substances in some foods.  </a:t>
            </a:r>
            <a:r>
              <a:rPr b="0" lang="en-US" sz="3200" spc="-1" strike="noStrike">
                <a:solidFill>
                  <a:srgbClr val="000000"/>
                </a:solidFill>
                <a:latin typeface="Britannic Bold"/>
              </a:rPr>
              <a:t>(nuts, eggs, wheat, soy, shellfish, chicken, and tomatoes, are common foods for allerg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214200"/>
            <a:ext cx="815364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Symptoms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halkboard Bold"/>
              </a:rPr>
              <a:t>Food Allergies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halkboard Bold"/>
              </a:rPr>
              <a:t> are</a:t>
            </a:r>
            <a:r>
              <a:rPr b="0" lang="en-US" sz="3200" spc="-1" strike="noStrike">
                <a:solidFill>
                  <a:srgbClr val="000000"/>
                </a:solidFill>
                <a:latin typeface="Chalkboard Bol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Abdominal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Chalkboard Bold"/>
              </a:rPr>
              <a:t>Swelling in the face and n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ff8000"/>
              </a:buClr>
              <a:buFont typeface="Chalkboard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halkboard Bold"/>
              </a:rPr>
              <a:t>Food Intolerance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: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 negative reaction to a food or ingredient that does not involve the body’s immune system (usually the digestive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itannic Bold"/>
              </a:rPr>
              <a:t>Body Mass 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67ff"/>
                </a:solidFill>
                <a:latin typeface="Arial"/>
              </a:rPr>
              <a:t>A ratio of your weight to your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 determine you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your weight in lbs. by 7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 your height in inches times it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answer in step 1 by the answer in step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Overweigh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eighing more than 10% over the standard weight for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ex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Obes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o much adipose tissue or excess body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ssible problems of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obesity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Higher risk of hypertension, diabetes, high cholesterol, atherosclerosis, and some ca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ody Fat %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assificatio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omen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2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-2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-2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4-1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-3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18-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%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25%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4440" y="457200"/>
            <a:ext cx="821376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derweigh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ing 10% or more below the standard weight for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dernutr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 consuming enough essential nutrients or calories for normal bod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ossible Problems of being underweight:  Low energy reserve, unable to fight infection, problems if surgery is needed, higher risk of developing anemia (low iron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ods that are high in nutrients relative to their caloric content </a:t>
            </a: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Nutrient 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Arial"/>
              </a:rPr>
              <a:t>Caloric intake should be around 2000-2500 per day (there are some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57200"/>
            <a:ext cx="8686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Britannic Bold"/>
              </a:rPr>
              <a:t>Lesson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Fad Di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extile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f67ff"/>
                </a:solidFill>
                <a:latin typeface="Textile"/>
              </a:rPr>
              <a:t>Eating Disord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555480"/>
            <a:ext cx="7031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Fad Die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approaches to weight control that are popular for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Fad Diets limit food variety and certain nutrients and hard to maintain for a long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Weight Cycl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extile"/>
              </a:rPr>
              <a:t>the cycle of losing, regaining, losing, and regaining 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ff8000"/>
                </a:solidFill>
                <a:latin typeface="Arial"/>
              </a:rPr>
              <a:t>(Yo-Yo Dieting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ther Risky Weight-Loss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sting (avoiding f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iquid Protein Diets (FDA warning lab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et Pills (may be addic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752480"/>
            <a:ext cx="7696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eware of Diet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volve eating only on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af67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67ff"/>
                </a:solidFill>
                <a:latin typeface="Arial"/>
              </a:rPr>
              <a:t>- claim you can eat anything you want or as much as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Arial"/>
              </a:rPr>
              <a:t>-promises quick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Supplies too few calories (less than 14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quires a weight loss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promises spot reducing(weight loss in on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oes not teach lifestyle changes for permanent weigh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1681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5:13:44Z</dcterms:created>
  <dc:creator>Chatham County Schools</dc:creator>
  <dc:description/>
  <dc:language>en-US</dc:language>
  <cp:lastModifiedBy>Joe Little</cp:lastModifiedBy>
  <dcterms:modified xsi:type="dcterms:W3CDTF">2007-11-28T19:00:08Z</dcterms:modified>
  <cp:revision>18</cp:revision>
  <dc:subject/>
  <dc:title>Chapter 6</dc:title>
</cp:coreProperties>
</file>